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EAE-D9F0-48DB-A929-EA44381C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39F-FD8D-4C23-B215-17AD7E6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C7A8E-AB60-4F09-A7F6-C75E1C4F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5FC1E-178F-4F40-A74F-DCDAEBBD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E0F82-337C-4516-B507-CBC8065F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41A35-20F5-4476-A5BC-E8769FF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100EB-6593-43B9-911F-20AD2DE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BB21-B484-4E8F-9B60-DCBE971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17F2B-509D-4C49-9DAA-9E60BC3F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3C3E-2BB1-4370-B538-8C09112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E73B0-62E6-4064-8E8C-324569D9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8397-0D6A-4B98-8E2C-B206F5DC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335-B28D-4805-B5BA-B18D61D9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91FF5-2FDE-4882-96B3-01E59DF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10BC-9122-4B8A-8BCD-F8E96E8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5C5DA-C580-4021-B8FB-3FE6207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F216-E4D8-424C-A787-D7C6673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BFDB0-40D9-4D00-AAC4-2DBB7D4C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B1F0A-C616-4425-9E6A-8FF0A2D9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8776A-EFA6-495F-AD08-7B2D733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5C5E-C916-45F1-92F8-9B08D23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22D90-41AA-43E4-AA8D-01B4FE0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E0FD5-91EB-4572-88BE-CA98950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457-990C-44D6-9DD2-01104C08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2CE52-E9FE-4B55-8569-18DB9C81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E3A50-D119-4B08-A611-31DB4FA1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81714-9C81-44BC-9CB3-F1E0A478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BD74F-7698-4820-9C91-EB47961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37FDF-63A2-488B-9C5E-A21F52F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B7877-40C2-4607-9088-A49010A1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9932C-F2D5-44C1-9D09-2D67B765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66D59-0B97-4784-A3F3-2D298C2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B04BE-91D7-46CA-9D4B-586A9A3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AA9F0-B3C3-402D-A1F4-D208A036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1D9A-BB6E-405F-BA99-7194D29E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358A9-94BF-4F78-A755-E6593E1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C97F-5E9D-4E6F-9108-9515EB6D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E498-C294-4289-872A-7B944CC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F54D5-4EC3-4286-BCB2-9DDA1C62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D5640-A192-43B3-BACF-97CAE9F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E4E53-97ED-4E5E-AF39-2F7C6D2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39D0-73A2-4537-A800-F9F52F2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AF7AC-0F4D-4EC4-8A5C-ABD7F9E1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11825-7B49-4584-A76A-0F52591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20BA-9A3D-430D-8B07-6F53439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12A-09A6-4DD4-948D-5AE8446E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979A2-BBB6-4AC8-B85E-B3C8414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0263C-F581-428A-8F42-39664F5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7C49E-F4EB-4A82-85CC-1520F50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D0F84-D9EF-4C40-AC2D-131A8113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A5346-09C6-48D9-BAB9-87B5F15F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D0102-C77C-4D1C-8382-5892D253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104FA-14CD-41A3-AD04-C642421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5A45C-0C23-4DB2-8E26-705DCF3E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0D195-B16E-45A7-9C4F-DE8A7628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D0946-106D-419D-9EC3-3C499ED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7372-61E9-482D-B4BA-F99F208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4CD2F-7649-4F8C-84A1-CB1A847D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FB21C-36A7-4B43-BC73-30DE8E6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AC128-6A70-4EB7-95EB-86D9954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535A4-938B-4F02-A764-9D48190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CAA02-B2F0-43AB-B122-798A2F0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234C2-94B0-403C-BA07-D9026AB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7B7F0-EDEC-4CCA-AAA9-2DDA4950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D021D-B983-4E74-BAD3-A522FEFD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D945F-4026-4C1A-BBE0-D492EB7E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2683F-5DE9-4A2C-B8A3-F014AB44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775D-1BBE-469E-948D-3913B70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BF112-6D50-412F-8E38-C786E1D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D776B-CD75-45AA-AD71-4264355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09296-EBCC-4189-A001-43D104FA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CED72-76AB-46B0-8FFD-9A69F01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F512C-3565-4D90-B039-348559B9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9467D-CA12-4E73-B1F8-7417C73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7ADD9-57A1-408E-AA32-7636FC3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E1CC0-A16E-432C-AB46-40A8F3FE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D052D-7A1C-46C7-AE6E-29C929BD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3ED8C-3897-461B-9F55-BEC3F98A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6506-0782-4F99-80CE-8D215BA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E1501-C054-4F94-9076-0252067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7FA15-26BE-4528-BD15-219B51C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194A1-FD3E-4E10-8C9D-46AD7C5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07183-3A59-4E48-AED4-14F4CAFD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88856-6688-4F53-96A0-159F6E0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8CF3E-0595-4DF1-AFE7-D56140F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2CBCC-F38E-4C41-BA23-ACE49846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A017F-DC6E-4543-B226-47841A8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9193B-41BA-4865-B560-812B494F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46F59-67A9-4A5A-A1EB-ADC306A1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C87B-17D9-45FC-AE31-2B46DA7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456A6-1AF9-4938-B77D-49E2C7A2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D257E-82BD-4C6F-9DFC-B4196CCA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12036-4FC1-4ADC-834B-AD14216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94547-839B-4717-804E-5266207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6BBB5-B068-4D28-874A-A357522B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DEE5E-C908-4A0A-91D4-10671617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F863D-E041-4A86-A797-BDA06948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4DFB7-3FD0-4C03-B21C-71D3D78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8C4BC-734E-4938-AD5A-9511CD5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DF3B9-37BC-46A4-85F8-397C266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F382-72B5-4589-99A4-DD885D8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5CEAF-EA8D-4420-A2D2-BB9CAC4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B2F30-B194-4C16-8915-FB3124CB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E1025-C258-4A19-957E-1E59B642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DB2C5-5280-4F7E-83BB-07AB3E6B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DE419-9CBC-4E03-8DEE-3DDC1A05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8B920-A2AA-4C64-8525-F966A9C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82D69-3D06-4BF1-8971-A74C7A3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D8E0C-B102-4F90-8C08-E2CA4B9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483DA-1FEA-4461-8DAB-BAEA730E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12743-B226-4D87-9B4B-0CBE5E3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C98-07C5-4EBE-8C01-9B759921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35E-D4A5-474D-88EE-9EBD3F5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C2D44-41CF-4573-9969-F294F67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93411-4D98-4CAB-A25D-F976088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41F1E-DC5F-4247-98A9-CD55443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68519-E846-4A2D-81C4-599FB262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A4BBC-A540-4736-A95E-61F20842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21820-42A6-4F4D-96C0-4B497757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2E06B-35AA-4AA0-BB13-7607D504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28DDB-6DED-4F0E-A365-4321B84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D86D3-5154-4F87-A1A8-9ED0AED7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B3250-30A4-45FA-81B5-89361A9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C43A-86D9-48EC-8182-16A29243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B06D4-26BF-4399-B4CF-694BF25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F56E4-60DD-4BA3-9653-9E94038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7F6DA-6895-4ADE-93C3-9100B44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DF8BA-52D4-4617-89F9-883F696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625B0-84E8-4D80-B6AE-19226C06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5C13B-6AB6-45F7-8EF2-BA10FA01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F3B54-0343-43A8-99A7-EDD5DFA1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B5786-C666-4AD2-85D8-629AAD2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160D9-06A4-4BDE-9DA1-0326D359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1D48C-5DB6-49CA-9E2F-18EEA125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282-E7CC-47CA-B6A7-C7D752EA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733ED-FEE5-42BA-82F1-975534F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5BFE4-DF8B-4755-9364-D8B42B3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1D1D8-0CCF-4BD8-88F3-4927494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03FE3-BF63-4D32-B8F8-BFDC4F2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F840E-7335-4972-AF9A-3F72B62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4E4E1-FC47-4B62-A84B-CC3A5B3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D1DE0-668B-4F84-B606-132D11C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33A1D-C81A-4DE5-BAAC-8A67D850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876BC-82D2-4D5F-9B31-DAAFE908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32625-1A51-486B-8A5A-ADCC74E4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D5B3-AF3B-48C9-8844-7008ADD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C1DCE-1328-47D8-B40B-23AC21C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26940-7A83-4D3C-9D41-465DCEE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D5388-A51D-4A6C-A09A-57E8E35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A50F4-5727-4638-B94C-AA5DE2D6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3CB5C-23C7-4BFA-ABC2-508D42E0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9CA27-7F83-4B05-A752-0036285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37DBF-E8E5-4A72-A1C3-5CBAB0F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7063F-D2A1-45C5-9A0B-7DBF6AD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59A06-2BD3-4DE6-9BAC-62099780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82CB42-A28F-4568-853E-F88C8CC0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F312-31C6-45BD-B0A2-D78C6513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C082E-DF87-4372-BBF3-FA3C7EE4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90415-DA5E-4894-9CF4-FEF8DA36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30350-2ED1-4FE2-A8ED-B46DD96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B60E8-33A4-461C-8A88-FF0DC2C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DFE58-A12B-41CB-BBB2-DDAB7ACD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1C5F1-E7FC-4237-833A-4D56B42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8659D-F761-488B-85D7-C678A6F7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CD246-BF53-4EB8-9DC4-D98DDB7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DB7D7-5FE1-451C-B7D7-8F2A407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0E7E3-D383-4AD9-9C83-A1C6822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6CB5-DD56-48FD-B963-D6FF56DD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BCAE4-530D-4DA5-AA42-34D9B43C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2736E-AE69-42B9-93DA-E2000793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16BC4-128A-4F0B-BEC2-5B87DF52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8BD4-649E-47C0-B253-B4E4B2C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E64B-8019-4601-A3CB-F91C6DB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AD0D-D6AF-4E1B-8A3E-5C6DEFC7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4A74-93E1-4B6E-BC1C-7B56517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C18-6267-4B2A-9F6D-B85081C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0940-851B-4A2F-A84E-65A8E18A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BC07-0943-43F4-96DF-52D9ED8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6DB7-9832-4BB1-B8F6-98D4BF2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0F23-B8D8-48F7-8170-E4D75A9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100F-EA3C-49F1-89BC-112A16E6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46E4-DDEB-4F4E-8B0D-B1C07576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B4FF-9D1D-4D48-B0ED-C0F36284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5BFE-FE3B-48CB-BCBF-E75F28C0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5788-F712-4BB0-A87D-B90BB51F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DFD8-CF02-4F0E-BFE4-C0E95B77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BFA-264D-4164-B82B-B5B2DCB3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0F3D-3BAB-4D94-8282-3F5D77B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B825-C830-45E5-B46C-8794FF6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52AA-9161-4ED1-A8F9-4BEC0C3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32FC-5FD9-497D-A2FD-DAF094A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BF2B-1699-42A1-9516-6BD872F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CC82-B76C-45F3-A71E-6BC7DA4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0A8E-DB42-4AAA-B22F-5059D82E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C810-C30D-4C75-8A23-0DE92217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B136-CB97-4D94-BB91-C21B3E37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047E-FCC1-4821-AA0F-1353D0AB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BC3-F850-4634-9E1C-8617C3A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20A9-7806-4A09-B9B0-DFD1018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99FA-6E13-4C5E-BE0F-7029F5E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8F4A-6611-44CB-85D9-BF05EB9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802F-85F3-4326-B7B0-E931784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AE95-A26F-4ACE-B2CF-39F24DA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727C-6E1E-401F-BC49-B8B8751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5550A-A744-47FD-87FC-A75F66A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197D-F623-4CC4-801E-AC0EE79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4AA2-0316-4FF1-816A-B5F3BBEE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ACB9-7885-4F0B-84DF-91602C1C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7C2-52A1-43A6-8BC4-D660F267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EBCA-1363-470C-B751-498207DA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5A95-E818-4B05-87E5-05F25C87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9E73-4181-4675-AE5D-D30EE71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9426-C615-44DB-99DE-88DD8887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EDE4-88C3-4708-A818-0A7E91A1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81FD-F26F-44B0-A84F-0F0B19A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A36F-B8D6-4EC1-9133-22BEE4A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71BB-0923-4E9E-A428-B37399F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D9143-8763-4CD6-94CF-EB19FF0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1C5C-C590-43EA-BDDF-674D02B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429-2F5A-4419-8A14-D615095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7E45-4123-4FE2-B565-1907174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9286-A0CE-45C6-9B97-49EB4273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637C-484E-4832-8427-A2134861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B3141-388A-4AB4-8694-B0EFC30D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74985-7910-45F1-9C4E-CB546502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1CD6-5D96-4F1B-9A0D-848CDB6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E4823-F6B2-4CF3-A98F-49B5E36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C3D0-FC7E-4F00-AE4A-63D1397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8DA9-EA63-4E37-9E68-F4C97E25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C5E5-C0F6-4E67-8917-A48579D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C1D-DBF6-4010-BD6B-C07DA8E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05FD-7E8E-4707-AFE0-F9C630A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9517-1531-4230-8D06-724DE22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6882-1F90-45A5-B6C1-F815084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7E97-383E-4C66-99E7-247AD223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094B-4EDD-4F7B-B71E-B69339B3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4058-CD62-4253-BE70-B958218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0B71B-53B2-4D45-8EB6-7DC1DF8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91610-51D7-4565-97E9-06BB51F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F2127-AC6F-4DB2-98EB-60C24A46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AFB4-5481-4E64-AD5E-67771F9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D2C-2120-4D27-A704-9EB08947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F68F-0CA0-4781-99D2-5D411B9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C03AE-071F-43A4-AD91-280DB57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FAFAD-F33C-4BDF-B178-68D5750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5ACED-42DD-415B-ACF2-F015F40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A1643-7526-4A50-BBDB-41C06ED4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0C59-5C4F-4B72-BEC3-C37F5F51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9CEF-6E87-4768-A05E-BD7CAAC2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DBFE4-A3FE-4895-BFDE-E4AD7EA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028B7-2234-427B-90A6-35E4F376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53110-9FA1-4D0C-AC51-08F2926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2992-3344-4AF6-B69A-B8E4F653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FDE-F66A-441F-8B62-0FB5D1201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8174-D385-48F0-8D18-91D0FB66D6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A1A-0FA7-4CB0-9874-E271AC396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739C-3BC7-46D2-8FA6-39801FD57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4CA-5FC6-488C-B564-B1BFB8A46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E596-5687-4BC9-A9AB-FACDA1374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0E2C-A313-40DF-9F59-5BC54A22A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2BA-6201-4784-9831-F31B9C4CC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8F63-0DE5-4C90-AD5D-58592A0A4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941-B4AA-4E31-B1AF-2B9D3175C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BC17-DD48-451A-B1AD-D0009CE7A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424-3619-4095-A111-FA321C453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8832-463E-40BE-ADB9-BB74BDC87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B4C-A85D-483A-A5EC-1A95634A5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DDA-73A9-4851-A1D5-B6C93365C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A9A6-123F-4248-AC3C-D4A13FE62F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846-49A5-49C0-9E49-4C85FFFB4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35A-C6E5-4EDC-BD9F-52B6EF3B7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C889-AF5E-4C4B-84C2-32B90E139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3F0-0B9F-4398-BDF9-B146E7BEDF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F09-45B1-438C-8110-06BCE0F5D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6FE-924A-4412-AE9F-EC816C275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298-FEA9-49C9-BE9F-A647F2497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E30-FE86-47F1-ABFE-7EC5B738F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44E-3B76-4B0B-8CF2-F944463B3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1FE-BB1D-4F1E-AB43-583B5AC21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0AD-55D7-43AA-82F8-8B2FFCAD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1019-A109-4ED7-9D55-7FDD312470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AFF-AD92-487F-9E61-0C5FD8607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4D3-CE4E-409C-B637-4097D7530B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9C53-6126-4955-834F-9D0802EE2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D1D-D6BA-4257-B6A8-0AF7BF530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15A-116C-4F92-9BE5-0599113A9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5ADC-D8E4-4749-AC24-451F46C2E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C103-81DE-48D3-BC6A-14660EADB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88E4-4AA7-4B38-B6D6-488BA920B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55F-26DF-4538-AF37-9BA7332CF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439-BAA0-4112-B4B5-0B6981D9E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3773-B681-40A9-96FA-81FDA5477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52360" y="2739960"/>
            <a:ext cx="6839280" cy="6098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814480" y="4029120"/>
            <a:ext cx="3515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28600" y="773280"/>
            <a:ext cx="8686800" cy="60084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098" descr=""/>
          <p:cNvPicPr/>
          <p:nvPr/>
        </p:nvPicPr>
        <p:blipFill>
          <a:blip r:embed="rId2"/>
          <a:stretch/>
        </p:blipFill>
        <p:spPr>
          <a:xfrm>
            <a:off x="1100160" y="400536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099" descr=""/>
          <p:cNvPicPr/>
          <p:nvPr/>
        </p:nvPicPr>
        <p:blipFill>
          <a:blip r:embed="rId3"/>
          <a:stretch/>
        </p:blipFill>
        <p:spPr>
          <a:xfrm>
            <a:off x="4095720" y="4019400"/>
            <a:ext cx="1816200" cy="559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0" descr=""/>
          <p:cNvPicPr/>
          <p:nvPr/>
        </p:nvPicPr>
        <p:blipFill>
          <a:blip r:embed="rId4"/>
          <a:stretch/>
        </p:blipFill>
        <p:spPr>
          <a:xfrm>
            <a:off x="7062840" y="400536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1" descr=""/>
          <p:cNvPicPr/>
          <p:nvPr/>
        </p:nvPicPr>
        <p:blipFill>
          <a:blip r:embed="rId5"/>
          <a:stretch/>
        </p:blipFill>
        <p:spPr>
          <a:xfrm>
            <a:off x="1100160" y="613584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2" descr=""/>
          <p:cNvPicPr/>
          <p:nvPr/>
        </p:nvPicPr>
        <p:blipFill>
          <a:blip r:embed="rId6"/>
          <a:stretch/>
        </p:blipFill>
        <p:spPr>
          <a:xfrm>
            <a:off x="4081320" y="6149880"/>
            <a:ext cx="30830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14480" y="857160"/>
            <a:ext cx="8915400" cy="5143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16000" y="48117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71280" y="861840"/>
            <a:ext cx="8999640" cy="5134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0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